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382-B41C-46B1-858A-12E23AA7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1BB-7B1C-43BD-BF40-61CEB45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A01-3582-4A73-88CF-D9A06B37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7EC-ADC3-45C5-9990-1DD1D4B8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3F7-64B2-4148-A229-D6E4D91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622-70A4-4A65-9908-4BC88064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AB9-6DB5-4C08-B40B-545B8F3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A33-73A9-41C0-804F-1DB0965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B08-FC20-4D92-8E39-BF5BC5E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618-F731-4AE9-B325-124590E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3AD-EB78-4D41-A2DA-FC169BC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06B-A9A7-4609-BD39-FC563AFA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887-411B-40E3-8636-8F1339A69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apter 10: The Data T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iscuss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back-end data stor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Web applications,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relational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using the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MySQL database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back-end storage for Web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data (as opposed to transient state data) on the back-end of a Web application can be stored in structured text files -- often called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flat f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258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911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cumbersome to maintain data in this format.  This is basically a table of data "flattened" into a 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teps for using a database in a Web appl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Steps 1-3 are typically done once by an administ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daemon must be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base must be created (using a GUI or by issuing an administrative command from within a progra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/Password permissions must be set for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Steps 4-5 can be performed repetitively by the Web a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to the database.  The DBI (database interface) Perl module will automate the process of interfacing with the database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pulate the database: Create tables, add records to existing tables, search for records which match some search criteria, delete record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tructured Query Language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IBM in the 1970's.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n international standard -- ANSI SQL last major standardization in 19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all database systems accept SQL queries. (Oracle, Sybase, Informix, DB2, Access, MySQL, mSQL, PostgresSQL, just to name a f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esent a small subset of SQL sufficient to add database support for Web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urposes of examining the SQL language, we discuss "raw" SQL statements.  Later, we will see how to use the DBI module to connect to a database and how to issue SQL commands from Per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Create a new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NO rows.  This simply defines the nature of columns (keys) for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umn_name_1  data_type_1</a:t>
            </a:r>
            <a:r>
              <a:rPr b="0" lang="en-US" sz="3200" spc="-1" strike="noStrike">
                <a:solidFill>
                  <a:srgbClr val="009999"/>
                </a:solidFill>
                <a:latin typeface="Courier New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lumn_name_2  data_typ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s in SQL are NOT case 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convention is to type SQL keywords in upper-case.  We will adhere to that conv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69960" y="36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types we will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CHAR(</a:t>
            </a:r>
            <a:r>
              <a:rPr b="1" i="1" lang="en-US" sz="2800" spc="-1" strike="noStrike">
                <a:solidFill>
                  <a:srgbClr val="333399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racter string of specified length. The string is right-padded with spaces and stor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(i.e. fixed-width colum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VARCHAR(</a:t>
            </a:r>
            <a:r>
              <a:rPr b="1" i="1" lang="en-US" sz="2800" spc="-1" strike="noStrike">
                <a:solidFill>
                  <a:srgbClr val="333399"/>
                </a:solidFill>
                <a:latin typeface="Courier New"/>
              </a:rPr>
              <a:t>length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aracter string of specified length, not right-padded with spaces (i.e. variable width colum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most database systems requir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 the range 1-2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REATE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stID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5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R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rchases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8381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Insert a recor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o an existing 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'33', 'Doe', 'John', 30, 15.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statement where we can give the keys and values in any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ge, purchases, first, last, cust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30, 15.75, 'John', 'Doe', '33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xtra whitespace in the statements is for readability, not a syntax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recommended to quote strings using single quotes, although most database systems also accept double qu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30, 15.75, 'John', 'Doe', '33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wo single quotes to escape a single quote.  Most database systems also accep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SERT I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ge, purchases, first, last, cust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30, 15.75, 'Miles', 'O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'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rien', '33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8769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1440" y="5516640"/>
            <a:ext cx="32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'B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89917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Selecting records and sub-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to select a sub-table by giving a list of keys (or * for all keys) where the selected sub-table is subject to some cri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[comma-delimited column_names or 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(three slides back), this would return a sub-table with one column and two 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&gt;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Best to give a handout containing the 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, this would return a sub-table with two columns and one r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ast,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ID = '12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iterion can contain simple pattern ma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ast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'La%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s for any string of 0 or more characters.  So this statement searches for last names that begin with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La'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ySQL, the match is NOT case sensitive. Us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LIKE BI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ase-sensitive matching.  The negation of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OT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/OR logic can be incorporated in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lects all columns matching the criterion -- the whole table in this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&gt; 18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&lt;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yntax for not eq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(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 returned sub-table in ascending (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descending (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der according to some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urchases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ORDER 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data is usually stored in a database tab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381880" cy="217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8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 A row in the table.  In this case we see the data for each customer is a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 A column of the table.  Also called a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If you look at the flat file version of the table on the previous slide, you can see that each field looks like a hash the whose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ame of the fiel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 a key which is guaranteed to have a unique value for each record.  Thus, the primary key uniquely identifies each reco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Updating a 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tatement modifies all rows that fit the criteria, replacing their column values as specified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list of pai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of for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9999"/>
                </a:solidFill>
                <a:latin typeface="Courier New"/>
              </a:rPr>
              <a:t>Column_name = va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updates the fiel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rch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 of any records matching the criter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urchase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&lt;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upd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rch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 of a particular record, identified by its primary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ge = 42, purchases = purchases +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ustID = '12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how the key (column name) can be used as a variable within a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Deleting rec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letes all records matching the cri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DELETE 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WHE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deletes the whol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DROP TA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800" y="-46080"/>
            <a:ext cx="86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Relational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s to tables which share relationsh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6019920" cy="181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7162920" cy="186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267080"/>
            <a:ext cx="877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key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de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tables are related through the shared ke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ustI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ustID, all of the data for a given customer, including all of the details about their order(s),  can be retrieved from the ralated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Database ser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ike Oracle, Access, MySQL, and mSQL are daemons which listen for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ad/write/search) on the data and send back any results (success/failure/records matching search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s work on data retrieval and manipulation on a level "behind" the http server.  This is the notion of a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three-tier Web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257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562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commercial Web applications may use a whole farm of servers on each level.  Small Web applications might run the database and http daemons on the same box.  Either way, the concept i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tier (http server(s)) is sometimes called the information assembly tier.  The idea is that this tier transforms the raw data records into human consumabl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reason, http servers are sometimes called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formation ser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caching in the middle tier is important.  Think of the results of a search engine query.  The data tier is queried only once, and the results are cached in the middle tier.  Then, a request for the next 10 search results, for example, simply pulls from the data cached in the middle t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search result caching in Chapter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iscussed in Chapter 18, XML being used more commonly for more robust middle tier caching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, the term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atab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a collection of t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itself has a name and so does each table in the datab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6705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atabase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atabase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atabase soft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responsible for the binary storage format of the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mer needn't be concerned with the underlying storage format.  We issue high level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SQL (Structured Query Languag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s to the database software, which then handles the  lower-level read/write/query actions on the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we only need to think of the data in its tabular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iest way to manipulate the data tables (e.g. issue SQL commands) is through a GUI, which most sophisticated database systems provi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48640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a Web application can't use a GUI to interface with a database system, so we focus on issuing SQL commands from within a Per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2:39:52Z</dcterms:created>
  <dc:creator>Craig Knuckles</dc:creator>
  <dc:description/>
  <dc:language>en-US</dc:language>
  <cp:lastModifiedBy>Craig Knuckles</cp:lastModifiedBy>
  <cp:lastPrinted>2003-04-10T22:13:50Z</cp:lastPrinted>
  <dcterms:modified xsi:type="dcterms:W3CDTF">2004-07-23T01:10:35Z</dcterms:modified>
  <cp:revision>68</cp:revision>
  <dc:subject/>
  <dc:title>PowerPoint Presentation</dc:title>
</cp:coreProperties>
</file>