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9.png" ContentType="image/png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E62-E9B1-4A69-B19A-A813BAA3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8997-C44C-416D-988E-A07BDAE0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0F1-0753-4AE0-8ACB-39D4E9ED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FDF-0DE0-463E-AE56-31BFDC36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A326-6A98-4EF5-9ED0-94ADBC36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1C2-F4A1-4AD0-9C78-AFF53C35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4CE-4178-464A-A204-67C4B135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911-BDDF-499B-AE28-7C4BB87E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EFC7-623A-487D-B7EF-D7F0E2E2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A1C0-8402-4093-B71F-E19858C4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A4A-128A-4C84-9E92-7C10911F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757-9C91-4E4E-AB64-1D172EE7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CE36-0152-47C5-9C6D-0D2A698D2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apter 5: Generating HTML Dynam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There are different operators for string comparison in Per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1958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41911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"Hello" eq "hello"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false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Be carefu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"Hello" == "hello"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true 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- the operator causes the strings to be placed into numeric context  (0 =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6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use the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pl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a 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str="colon:delimited:list:of:strings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thelist =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pli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/:/ , $str , 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@the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nta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colon" , "delimited" , "list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without the third argument to recover all of the delim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thelist =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pli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/:/ , $s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all 5 of the delimited list of strings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@the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Ha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- A data structure consisting of key-valu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key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hexColor = ( "red"  =&gt; "#ff0000"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green"=&gt; "#00ff00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lue" =&gt; "#0000ff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nd of like an array, but the values are indexed with strings (the keys) instead of integers like with an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lue is accessed using the corresponding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$hexColor{'green'}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the value is a scalar, hence the 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st assigned to a hash variable, is treated as a ha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hexColor = ("red", "#ff0000", "green", "#00ff00", "blue", "#0000f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efines the same hash as using the special hash notation on the previous sl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also build a hash by direct assignment of the keys and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hexColor{"red"}="#ff0000"; $hexColor{"green"}="#00ff00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hexColor{"blue"}="#0000ff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this defines the same ha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11049120" cy="1273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87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useful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752480"/>
            <a:ext cx="914400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both extract an array from a ha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k = keys %hex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v = values %hex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ortant 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hash does not preserve the order in which the key-value pairs are assigned to the hash.  Thus, two arrays above might not be parallel in the sense of preserving the key-value relationsh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ray function us useful to use to iterate over the keys of a hash in alphabetical (ASCII)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 $key (sort keys %hexcolor)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$key : $hexcolor{$key}\n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inted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ue : #0000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 : #00ff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 : #ff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71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websites=( 'perl' =&gt; 'www.perl.org'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princeton' =&gt; 'www.princeton.edu'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amazon' =&gt; 'www.amazon.com'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ebay' =&gt; 'www.ebay.com'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&lt;ul&gt;\n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 $name (keys %website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&lt;li&gt;&lt;a href=\"http: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websites{$name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"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/a&gt;&lt;/li&gt;\n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&lt;/ul&gt;\n"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u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li&gt;&lt;a href="http://www.ebay.com"&gt;ebay&lt;/a&gt;&lt;/li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li&gt;&lt;a href="http://www.amazon.com"&gt;amazon&lt;/a&gt;&lt;/li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/u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more useful hash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8600" y="533520"/>
          <a:ext cx="8915400" cy="2743200"/>
        </p:xfrm>
        <a:graphic>
          <a:graphicData uri="http://schemas.openxmlformats.org/drawingml/2006/table">
            <a:tbl>
              <a:tblPr/>
              <a:tblGrid>
                <a:gridCol w="5562720"/>
                <a:gridCol w="3352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sts $somehash{ "somekey" 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s true if somekey exists in %ha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ete $somehash{ "somekey" 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etes the entry for somekey from %ha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1080" y="609588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topics.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7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@a = ('value1 , . . . , 'value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array values are scalar variables indexed with integers 0,1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$a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h = ('key1' =&gt; 'value1'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. . .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'keyN' =&gt; 'valueN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hash values are scalar variables indexed with strings (the keys).  The order in which the hash actually stores the keys is unpredic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$h{'key1'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73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ar, array and hash variables have different namespaces.  Thus, the following would all be distinct variables in a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x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@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%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over, the following scalars would also be distinct variables in a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x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x[i]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# arra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x{"key"}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# hash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l functions are called sub routin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functionN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atements executed by the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just call them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 defined functions should be called using the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functionNam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entheses are optional when there are no paramete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function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ogical Operators are Standa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(and – true only if both operands are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|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or – false only if both operands are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(not – negates its oper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8153280" cy="2768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362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ditionals are standa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a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urly braces are required in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of a void (non-return)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 printWebPageFoote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'This web page was design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a href="mailto:me@myaddress.com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 me mail&lt;/a&gt;', "\n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call to the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printWebPageFoo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-in functions are called without the &amp;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x =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qr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timeparts =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localti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uilt-in local time function returns an array of 9 different time parts.  We could call the function like th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$sec,$min,$hour,$mday,$mon,$year,$wday,$yday,$isdst) =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localti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in the first function call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timeparts[2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uld contain the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ho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, for exa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7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poi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l functions can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s as you would exp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word makes variables local to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Example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 currentDat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 @timeParts=localtime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 ($day, $month, $year) = ($timeParts[3],$timeParts[4],$timeParts[5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($month+1)."/".$day."/".($year+19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Example 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&lt;title&gt;Stock Quotes for ", &amp;currentDate 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"&lt;/title&gt;\n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: currentDate.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Important: Functions can't be interpolated inside double quotes or (print block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2760" y="21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variables using my work as you would expe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x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noChan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$x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 noChang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 $x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ed 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ithout the my keyword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uld have been prin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71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arguments to Perl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uilt-in array </a:t>
            </a:r>
            <a:r>
              <a:rPr b="1" lang="en-US" sz="3200" spc="-1" strike="noStrike">
                <a:solidFill>
                  <a:srgbClr val="333399"/>
                </a:solidFill>
                <a:latin typeface="Courier New"/>
              </a:rPr>
              <a:t>@_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 arguments array) receives all parameters in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function ca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domain = "www.cknuckles.com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text = "Web applications site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makeLin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$domain,$tex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makeLin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&lt;a href=\"http:/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_[0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"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_[1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/a&gt;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a href="http://www.cknuckles.com"&gt;Web applications site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893124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erl, ALL  parameters are passed by refer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x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change($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 chang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_[0] = 2;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# change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# global variable 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Err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change("hello")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# this would give an error (attempt to alter a ready only value) since $_[0] is a reference to a string lit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0075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ood practice in Perl to help avoid that problem (and so you don't have to use all the funky variables li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_[0]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o simply transfer the arguments array into local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 makeLink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do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tex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= @_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&lt;a href=\"http://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do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"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/a&gt;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7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the arguments array (like all Perl arrays) is not of fixed size, a function can be constructed so that it takes an arbitrary number of parameters (without overloading i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 makeLi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&lt;ul&gt;\n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 $item (@_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86184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&lt;li&gt;$item&lt;/li&gt;\n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86184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86184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&lt;/ul&gt;\n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cal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makeList("apples" , "oranges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makeList("apples" , "oranges" , "bananas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makeList.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Operations in Pe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11810880" cy="2462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886200"/>
            <a:ext cx="914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Open for appen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n (FILEHANDLE , "&gt;&gt;data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print a line to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ose (FILEHAND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6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trategies for reading data from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b one line at a time manually as nee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line1 = &lt;FILEHANDLE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line2 = &lt;FILEHANDLE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line3 = &lt;FILEHANDLE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it one line at a time in a loo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$line = &lt;FILEHANDLE&gt;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do something with eac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$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the whole file into an array with one line of code and use as needed l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all_lines = &lt;FILEHANDLE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-46080"/>
            <a:ext cx="62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sted Conditionals are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tanda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78152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52880" y="25146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The reason f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if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 is that the curly braces are mandatory.  Hence, the standar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 if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 notation won't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3008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30481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dataDir = "directory/path/"; 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# to the director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#containing websites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8862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websites=(); 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# empty h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n(INFILE, "$dataDir"."websites.txt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$line = &lt;INFILE&gt;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omp $lin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$name, $address) = split(/=/, $lin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websites{$name} = $addres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ose(INFI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4160" y="380880"/>
            <a:ext cx="357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 this text file into a ha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rror potential when reading files in CGI progr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ssions: need 644  (the default for ftp transf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does not exist when opening for reading (file names are case sensitive on Unix/Linu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opening for write or append, the file will be created if it does not exist. No big deal if you are running a non-CGI Perl program, since you are the user creating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for CGI programs, the file is created at the request of the Web server software, which runs under own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bod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us, the file's owner is nobody.  That means you can only read it even if it is in your accou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on-CGI pro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standard way to detect failed file operation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open(FILEHANDLE, "somefile.txt")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"failed file access on somefile.tx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failure, the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and writes it's string argument to the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standard error chann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- the command line or IDE output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set a descriptive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i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for each file open operation, you can easily debug programs because you know what went w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CGI programs, the standard error channel goes into a log file kept by the Web server software.  Thus, you won't see the message from the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The 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nd an error Web page back to the Web browser when a file operation fai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Advantag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easily debug your programs when a file operation is causing it not to work r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Web sites can send descriptive error pages back to the Web browser (instead of an incomplete page, which is often the result of a failed file op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9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&amp;errorPage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function we will use throughout this b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 errorPag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$_[0]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&lt;&lt;A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html&gt;&lt;head&gt;&lt;title&gt;Server Error&lt;/title&gt;&lt;/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body&gt;&lt;h2&gt;Server Error Encountered&lt;/h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the problem persists, please notif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a href="mailto:x\@y.com"&gt;webmaster&lt;/a&gt;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# terminat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CRUCIAL so that the program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not print two complete 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links2.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previous example, a failed file operation would cause a broken Web page (a list whose list items contain broken links).  Thus,  sending an error page is certainly appropri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in some cases, a failed file operation does not warrant an error page.  Rather, a failed file operation can be compensated for in the Web page generated by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erfect example is a hit counter, where a text file keeps a record of the number of past hits to the program.  Upon a failed file operation, it's better to just not report the current hit total than to abort (exit) the program and print an error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hit.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ternal files containing source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statement imports Perl code contained in a separate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quire "path/to/somefile.lib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external file contains stand-alone statements (not included in a function), those statements will be executed as part of the program which imports (requires) the external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, such external files are used only to contain useful libraries of functions, henc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l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le extension w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ailed attempt to import (require) an external file is usually fatal to a Perl program. (In contrast to a failed open file operation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9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uxiliary file contain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&amp;errorPage, &amp;someOther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###############################################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 errorPag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agh, blagh, blagh, 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###############################################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###############################################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 someOtherFunc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agh, blagh, blagh,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###############################################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Courier New"/>
              </a:rPr>
              <a:t>1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CRUCIA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to return true at the BOTT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of an external sourc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ome notes on Boolean variables in Pe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Boolean bareword literal value of true (like Java, JavaScrip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expressions evaluate to 0 and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x = ("hello" ne "Hello");   # $x contains 1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 (for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if($x){…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is then equivalent to     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if(1){…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 in Boolean context work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mpty string evaluates to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non-empty string evaluates to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5040" y="603576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$str) {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ecutes unless $str is empt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is standa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( Boolean expression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block of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 is standard (if you like $ character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$i=1 ; $i&lt;=100 ; $i++ 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block of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 whileloop.c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88549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liter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a", 'b', 3+4, $x, sqrt(2)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lists are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latte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a", ('b', 3+4), $x, sqrt(2))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# would be same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 # as the above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 #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ting:  Can do multiple scalar variable assignments using list lit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$x,$y) = ($y,$x);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# equivalent to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# standard 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literals can be assigned to array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names=("frodo","samwise","glorfindel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ray values are scala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$names[0]";     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# prints  fr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names[3] = "shelob";  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# add another 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# to the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ecial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#nam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alar contains the highest array index,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is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$i=0 ; $i &lt;= $#names ; $i++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$names[$i]\n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206280" y="49989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134200" y="6143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7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rea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o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 $item (@somearray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$item\n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i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 will go through all the array items in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use any scalar variable nam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$i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spec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cleaner and easier to use than a for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links.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5760" y="-90360"/>
            <a:ext cx="47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useful arra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10439280" cy="87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-228600" y="1295280"/>
            <a:ext cx="9677520" cy="1293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2590920"/>
            <a:ext cx="914400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23:28:34Z</dcterms:created>
  <dc:creator>Craig Knuckles</dc:creator>
  <dc:description/>
  <dc:language>en-US</dc:language>
  <cp:lastModifiedBy>Craig Knuckles</cp:lastModifiedBy>
  <dcterms:modified xsi:type="dcterms:W3CDTF">2004-07-23T01:09:01Z</dcterms:modified>
  <cp:revision>59</cp:revision>
  <dc:subject/>
  <dc:title>PowerPoint Presentation</dc:title>
</cp:coreProperties>
</file>