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0788-0799-49E8-B0DE-06BB9455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743A-5F31-4EB4-AFAE-C69F1083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F125-C58B-4BC2-B6E6-F119EDF1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E9B8-0B81-4292-A42A-7A9F4F6A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0B9C-8367-45DF-B866-27A38304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E988-8218-4526-9891-6B3B2757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C7B7-FB5B-43A7-BD67-3B749249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5EF4-3D8D-4B73-9CA8-78BA4805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DEA8-21D4-4AFB-A326-2E17735C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3896-639A-4AC6-BE7C-59BFD9A9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3EE3-470F-4956-BB1F-EEC5D8DD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9857-D2C0-4E36-8264-2B0FF007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127A-5A49-4D75-829C-F7C0F67D3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4400"/>
            <a:ext cx="9144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apter 1: Introduction to Web Appl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hapter gives an overview of the Internet, and where the World Wide Web fits in.  It then outlines the nature of basic Web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690480"/>
            <a:ext cx="9144000" cy="616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 more involved HTTP transaction -- A Web appl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102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248520" y="1371600"/>
            <a:ext cx="2895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HTTP GET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-- Data in query string sent in packet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HTTP POST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-- Data is part of message pay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722160"/>
            <a:ext cx="7620120" cy="6135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Various technologies for Web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865080"/>
            <a:ext cx="9144000" cy="5992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4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Inter-net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ork is a big network of netwo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581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he five-layer networking model for the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794040"/>
            <a:ext cx="9144000" cy="3063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Routers direct packets among different networks based upon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IP addresses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ome IP features: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Flow Control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Time To Live (TTL)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o delivery guarantee at this lay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3508200"/>
            <a:ext cx="9144000" cy="3349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Transport Layer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-- End-to-End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Transmission Control Protocol (TCP)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-- Divides data into packets, verifies arrival on the other end, puts packets back together.  TCP connections between two computers called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sockets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User Datagram Protocol (UDP)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-- No guarantee of delivery, often single packet transmission, used for Domain Name Ser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576440"/>
            <a:ext cx="9144000" cy="5281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wo useful application layer services on the We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Domain Name Service (DNS)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-- Uses UDP for trans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Virtual Hosting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-- Maps Domain Names onto folders on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he Web ser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1148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he structure of a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Uniform Resource Locator (UR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5909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: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The application layer protocol. Example: Browsers and Web servers use http (hypertext transfer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The named address of the resource -- Translated to IP address for internet travel, then used to locate the virtual space (folder) on the Web ser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: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Path to specific resource in that folder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3692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he what part of a URL identifies a particular resource within the folder assigned to the domain name (where part of UR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he request for a directory loads a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default file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in that directory.  If there is no default file, then the directory contents may be lis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he request for a file loads that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297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 basic HTTP trans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7T01:21:11Z</dcterms:created>
  <dc:creator>Craig Knuckles</dc:creator>
  <dc:description/>
  <dc:language>en-US</dc:language>
  <cp:lastModifiedBy>Craig Knuckles</cp:lastModifiedBy>
  <dcterms:modified xsi:type="dcterms:W3CDTF">2004-07-23T01:06:58Z</dcterms:modified>
  <cp:revision>3</cp:revision>
  <dc:subject/>
  <dc:title>PowerPoint Presentation</dc:title>
</cp:coreProperties>
</file>