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249-0B98-4582-A1BE-E6352E3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48C-487C-414B-A45D-459DC1FC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4E1-A1B0-4BAA-9AEE-3DC7019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374-8E66-4811-9599-26EC904F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BF5-FD1D-44AB-8A1D-237383C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05B-8346-42AE-89A6-54C9C7A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D18-3E98-44EC-8A4A-DC48A33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955-FA9D-456C-929F-3BC4739A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6BC-372F-4871-BD61-C93FE0F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C3D-BADE-4F42-8F04-CBCD710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E6C-2C30-4DB7-8B3F-CC7ECFB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BAD-0309-4AF4-9691-08F6E80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CC18-BDF7-4D40-80A2-FA25AEB4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pter 11:  Regular Expressions and 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the following for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/</a:t>
            </a:r>
            <a:r>
              <a:rPr b="1" i="1" lang="en-US" sz="2800" spc="-1" strike="noStrike">
                <a:solidFill>
                  <a:srgbClr val="333399"/>
                </a:solidFill>
                <a:latin typeface="Courier New"/>
              </a:rPr>
              <a:t>patte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at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an ordinary string or a generalized string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acharac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ding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=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used to "bind" the matching operator onto a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yesterday"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=~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/y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the pattern is an ordinary three character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tire expression evaluates to a Boolean value, true (1) in this case since the pattern yes is a substring of "yesterday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cape sequences that stand for a class of charac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epresent only one character in a pattern, but that one character matches any character in the specified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828800"/>
          <a:ext cx="8610480" cy="4471920"/>
        </p:xfrm>
        <a:graphic>
          <a:graphicData uri="http://schemas.openxmlformats.org/drawingml/2006/table">
            <a:tbl>
              <a:tblPr/>
              <a:tblGrid>
                <a:gridCol w="680760"/>
                <a:gridCol w="792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 digit 0 through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any character that i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Geneva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a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 alphanumeric character: letter, digit, underscore (w comes from wor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y character that i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lphanumeric (opposite of \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whitespace character (blank space, tab, or newl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whitespace character (opposite of \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7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four character sequence that looks like a year in the 190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19\d\d/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1921" , "34192176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191a" , "34192-76"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hitespace character.  (i.e. It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ty string or merely a sequence of whitespace characters.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\S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x" , "()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" , "    ", "\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ild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io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s for any one charact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ewlin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three character substring that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ything in betwee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new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c.t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cat" , "arc&amp;tangen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ct" , "cart" , "arc\ntangen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cape sequences that match lo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haracters do not actually represent a character in a pattern.  Rather, they represent locations withi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590920"/>
          <a:ext cx="8001000" cy="3581280"/>
        </p:xfrm>
        <a:graphic>
          <a:graphicData uri="http://schemas.openxmlformats.org/drawingml/2006/table">
            <a:tbl>
              <a:tblPr/>
              <a:tblGrid>
                <a:gridCol w="735120"/>
                <a:gridCol w="72658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ning of 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f string or before a final newline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of 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ord bound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\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a word boundary (thus location between two \w type charact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5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\AT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Tom" , "The bees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tom" , "AT&amp;T"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\AThe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Thelma" , "The beest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That" , "the bees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not as part of any bigger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\bcat\b/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cat" , "my cat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cats" , "concatenat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matching locations, the escape sequence 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"use up" a character.  That is, an expression such 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$str =~ /ing\z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ests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ee 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en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aract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racket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pattern define a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hole class matches only one character, and only if the character belongs to the cla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ee-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ing beginning with on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[rbc]at/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rat" , "bat" , "cat"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concatenate" , "battery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mat" , "a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cape sequence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opposites can be used inside a cla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sh (-) can be used between two characters to denote a range of charac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[\dA-F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s for one character that is either a numeric digit or one of the upper case letters A-F.  It is equivalent to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[0123456789ABCDEF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two-digit hexadecimal number as formatted in query string enco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%[\dA-F][\dA-F]/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%0A" , "data=Hi,%0A%0Dmy name i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%0a" , "%3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5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serves like an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reating alternativ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ny of the three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cat|dog|ferret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cat" , "dog" , "ferret" , "my cat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cats and dogs" , "dogged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hamster" , "dodge the car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ternatives are tested from left to r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ternatives themselves can be more complicated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rouping and Cap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used for grouping in patter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one of the three alternatives, then a whitespace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(cat|dog|ferret) food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cat food","dog food","ferret food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I like cat food and dog foo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cats food", "rat food", "dogfoo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everal alternatives, it is often desirable t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pt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alternatives caused the successful match.  That is, a mere truth value indicating a match doesn't indicate which match actually occur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matching expressions result in Boolean values, they are usually used in a condit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="yesterday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m/yes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The pattern yes was found in $str.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0116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monstration, we will usually only show the matching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="yesterday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~ m/ester/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~ m/Ester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~ m/yet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al, built-in variable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, $2, $3, …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p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alternative that provides a successful match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 "Do you have ferret food?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(cat|dog|ferret) foo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ferret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that alternative provides the match.  The rest are emp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ore than one match is present, only the left-most match is recorded since alternatives are processed from left to righ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 "Do you have dog food or ferret food?"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(cat|dog|ferret) foo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dog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to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mpty even though there is a second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groups can populate more of the speci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 "Purina cat chow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(cat|dog|ferret) (food|chow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at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ho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Captured matches are assigned into the special variables starting from the left-most grouping of alternatives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can be collected into a larger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 "Purina cat chow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((cat|dog|ferret) (food|chow)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at cho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at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ssign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ho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left-most behavior is still obser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a successful match, the special capturing variables are global variables within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data =~ /(cat|dog|ferret) (food|chow)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The match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b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1 $2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/b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was found.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Purina cat chow is now"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print statement would gener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e matc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t chow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was f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global variables, they will contain the captured matches throughout the rest of the program or until their values are replaced by data captured in other ma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ther speci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some degree of "capturing" even when grouping is not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`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prematch - that part before the match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match - the matched p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(postmatch - the part after the mat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is is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"I like cats and bats." =~ /[rbc]a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cat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`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I like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s and bat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original string is equivalent to the concatenation of the three special variables.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`. $&amp;. $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a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609480"/>
          <a:ext cx="8458200" cy="2895840"/>
        </p:xfrm>
        <a:graphic>
          <a:graphicData uri="http://schemas.openxmlformats.org/drawingml/2006/table">
            <a:tbl>
              <a:tblPr/>
              <a:tblGrid>
                <a:gridCol w="1219320"/>
                <a:gridCol w="72388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one or more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zero or one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zero or more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{n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exactly n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{n,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at least n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{n,m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urrence at least n and at most m times (consecutive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38098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ntifier is always put after the character (or class of characters) to be quantifi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/x+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-- matches one or more x's in a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/[aeiou]{3}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- matches any three vowels in a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/c.*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tch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llowed b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0 or mo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character in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70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t least on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in betwee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ab+c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abc", "abbc" , "abbbc" , "aabcc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ac" , "aBc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sequence of exactly 3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s in betwee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 =~ /ab{3}c/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abbbc", "aabbbc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abbc" , "abbbbc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$st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a sequence of at least 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in between a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 =~ /ab{2,}c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abbc", "abbbc" , "aabbbbc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abc" , "aBBc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gets interesting when quantifiers are mixed with the special character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n alphanumeric word (chunk of consecutive alphanumeric charact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\w+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beest", "1234" , "R2D2" , "x" , "##xyz##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####" , "" , "  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one or more consecutive digits (i.e. is there an integer insi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\d+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1", "121 Elm. St." , "R2D2"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##1##" , "3.14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a" , "####" , "" , "  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 substring that looks like a (possibly negative) integer.  That is, do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 zero or on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haracters, followed by one or more consecutive dig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-?\d+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2", "-2" , "-3.14" , "3-21.7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xyx" , "x-y" , "4-x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to see if there is at least one whitespace character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\s+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 ", "    " , "  xyy" , "The En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" , "xyz" , "TheEn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matches any two digit hexadecimal number. That is, it matches any occurrence of two consecutive characters from the clas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[0123456789abcdefABCDEF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[\da-fA-F]{2}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antified pattern is equivalent to the longer patter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/[\da-fA-F][\da-fA-F]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next example, suppose we have dates that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ted, but in the gener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nth_name  day_number,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sh to create a pattern capable of factoring out inconsistent formatting and capture the three date parts.  For example, it should handle both dates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n  1,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RCH 22,  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(a group of one or more letters, lower or upper-case), followed by one or more spaces, followed by (a group of one or more digits), followed by a comma and then zero or more spaces, followed by (a group of one or more digi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date =~ /([a-zA-Z]+)\s+(\d+),\s*(\d+)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are three groups, the month is captured into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day into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year in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ome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!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egated form of the match operator.  It returns true if the matching action 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d the pattern in the string.  We will more often use the matching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$respons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!~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/yes/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yes was not found in your response.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ching operator can be simplified syntactically.  For example, the following two expressions are equiv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~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 =~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antifiers are greedy by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s a quantified pattern will attempt to match as much as possible. ("Matching is greedy."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pression tests fo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, followed by one or more of anything (wildcard), followed by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"&lt;h1&gt;Title&lt;/h1&gt;" =~ /&lt;.+&gt;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antifier's greedyness passes u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"&lt;h1&gt;"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would otherwise be a match.  So the pattern matches the whole string in this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come the greedyness (match as little as possible), an extr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is placed after the quantifi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o find HTML tags, the pattern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&lt;.+?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used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basically says test fo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followed by one or more of anything unti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firs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is fou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would only mat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&lt;h1&gt;"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"&lt;h1&gt;Title&lt;/h1&gt;" =~ /&lt;.+?&gt;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mand mod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 of the matching operator can be altered by using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mmand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placed after the oper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_expression =~ /pattern/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command_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se insensitive matchi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mand modifier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that the matching should be done in a case insensitive fash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be/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The string contains either be, Be, bE, or BE.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7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ch operator can be bound not only onto string literals and variables, but also onto expressions that evaluate to strings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1="wilde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2="bees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str1.$str2 =~ /debe/   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#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rver-side "platform sniff" done by matching agains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TTP_USER_AG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vironment vari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features the first pattern which is not merely a sequence of characters.  The ma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info =~ /(Unix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ux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rue of either Unix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ux is a substring of whatever is stor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source fi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s.cg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gular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rules which define a generalized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implicity we call regular expressions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for a pattern i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/pattern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ttern is like a double quoted string in that variables are interpolated and escape sequences are interpr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 pattern is much more powerful than a string and can cont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ldca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acter 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fi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ust to name a few features which make patterns (regular expressions) much more general than ordinary string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which have special meaning in patterns are called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charac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] ( ) { } | \ + ? . * ^ $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sed literally inside a pattern, their special meaning must be escaped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$sentence =~ m/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\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Your sentence seems to be a question.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74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rmal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include ordinary ASCII characters which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haracters include, letters, numbers, the underscore, and a few other character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@ % &amp; = ;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are not reserved metacharacters in patter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haracters need not be escaped when testing for match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$sentence =~ m/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 "Your sentence seems to contain an independent clause.\n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caped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ing in patterns works just like escaping characters in ordinary strings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s for on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s for on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ee character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(b)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$str =~ /\(b\)/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value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would yield true and false values in the above m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"(b)" , "(a)(b)(c)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"(ab)" , "( b )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cape sequences that stand for one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scaped characters stand literally for only one character, like escaped meta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nd for one invisible character, such as a whitespace character. Just like with ordinary string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s for one newline character,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\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s for one tab charac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tests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two consecutive newlin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$str =~ /\n\n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tru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"a\n\nb" , "a\n\n\n\tb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false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"\na\n" , "a\n \nb"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2:29:56Z</dcterms:created>
  <dc:creator>Craig Knuckles</dc:creator>
  <dc:description/>
  <dc:language>en-US</dc:language>
  <cp:lastModifiedBy>Craig Knuckles</cp:lastModifiedBy>
  <dcterms:modified xsi:type="dcterms:W3CDTF">2004-07-23T01:11:34Z</dcterms:modified>
  <cp:revision>65</cp:revision>
  <dc:subject/>
  <dc:title>PowerPoint Presentation</dc:title>
</cp:coreProperties>
</file>