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24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22.png" ContentType="image/png"/>
  <Override PartName="/ppt/media/image5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3.pct" ContentType="image/x-pict"/>
  <Override PartName="/ppt/media/image21.png" ContentType="image/png"/>
  <Override PartName="/ppt/media/image19.pct" ContentType="image/x-pict"/>
  <Override PartName="/ppt/media/image1.pct" ContentType="image/x-pict"/>
  <Override PartName="/ppt/media/image20.png" ContentType="image/png"/>
  <Override PartName="/ppt/media/image18.png" ContentType="image/png"/>
  <Override PartName="/ppt/media/image15.pct" ContentType="image/x-pict"/>
  <Override PartName="/ppt/media/image17.pct" ContentType="image/x-pict"/>
  <Override PartName="/ppt/media/image16.pct" ContentType="image/x-pict"/>
  <Override PartName="/ppt/media/image26.png" ContentType="image/png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6EE-3EFF-4BDC-910F-61905D22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4D5-BD8F-4970-A24D-EBE8164F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595-B0FE-44B0-A059-F5BF289F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78A-FCD8-41EE-8743-966D43CC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4FD-258C-4335-8670-C2CF6F89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5C6-3B90-4A6E-958B-32F6107E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3FF-5113-4654-B011-648148F6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A23-0927-4605-9C7D-57A8971A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5B0-8F9F-4F5D-B8F0-F4E3A99A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67F-521B-41F8-A119-8F82435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838-7FC0-4F9D-ADE9-0E136C8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044-779D-4211-AA2D-CA352C7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EA8E-D4F5-4840-9B76-FBC61D291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apter 3 : Processing on the Front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885480" y="-63360"/>
            <a:ext cx="324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8580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JavaScri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ly its name is ECMA-262, which refers to the international standard which defines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is derived mostly from Netscape's JavaScript, but it does have some features from Microsoft's JScri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most common use (by far) is to provide scripting support for Web browsers.  All of the popular "modern" Web browsers support the cor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6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re also standard with the exception that you don't need to define what type(s) it may ho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new array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ar list=new Arra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some array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[0]=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[1]=3.1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[1000]=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lowed indices are not pre-determined, but it's best to stick to standard array indexing, unlike the above example which skips some ind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variables are objects. JavaScript doesn't yet support classes and inheritance, but there are several built in classes with constructors (lik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Array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which are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main focus here is to use JavaScript to process HTML forms.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orms are created using only HT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743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m But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6477120" cy="1322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6477120" cy="1168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8001000" cy="1384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5486400"/>
            <a:ext cx="6553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315200" y="304812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1363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8001000" cy="1403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708660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8153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45720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1488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7238880" cy="1220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-228600" y="3240000"/>
            <a:ext cx="8686800" cy="361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86600" y="6461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See bigform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7848720" cy="4022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5040" y="0"/>
            <a:ext cx="48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 of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rowser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320" y="4724280"/>
            <a:ext cx="9121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spects of a Web page can be changed by changing the Browser Object using JavaScri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will change the text color of the page to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indow.document.fgColor="#0000FF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we are mostly concerned with form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ame="fr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text" value="hello"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ame="textbox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nput type="button" value="click me"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onclick="f()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419720" cy="561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133720"/>
            <a:ext cx="9144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orm is an object. Its name is reference to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elements are properties of the form object.  Again, the name of the element is the reference to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xt field is a string object.  It's data is in it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document.fred.textbox.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tton's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on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ent handler calls a JavaScript function named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function changes the content of the text field.  The change in the Web page is immedi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unction f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document.fred.textbox.value = "there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}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See formobject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vent Handler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listener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special properties of the various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nt Hand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ndow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focus, onbl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cu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load, onunloa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click,onmouseover,onmous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m butt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vent handler can be placed as an attribute in the HTML element which creates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examples call the built-in JavaScript alert() function when the even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body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onload="alert('Welcome')"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 href="…"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onmouseover="alert('Hey, man!')"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gt; click me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3240" y="615636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See loadevent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See linkevent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mostly create custom functions to handle user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functions will primarily access, and perhaps change,  the elements (hence the data) in form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is in a form element's properties, which are standard variable 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Form Element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Its Fundamental Data Typ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field, text are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 - 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o button, checkbo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lean - is it check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 - th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 (sing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- which option is selec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y of strings - the data for each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 (multip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y of Boolean - is a given option check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y of strings - the data for each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76920" y="39625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The form of Figure 3.9 and a diagram to represent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The branches show object re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The primitive variables are listed at the ends of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0200" y="1914480"/>
            <a:ext cx="7543800" cy="494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ow is the same form as previous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orm elements are indexed by a built-i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s[]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useful when you need to iterate over several form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either this array or the name given to the form element for object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2880" y="1447920"/>
            <a:ext cx="612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!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Script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5000" y="69840"/>
            <a:ext cx="900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pts are included in HTML files by placing them inside an HTML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er inside either the </a:t>
            </a: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tion of the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24120"/>
            <a:ext cx="914400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TML comment markers are to hide the JavaScript statements from older browsers that don't understand the HTML </a:t>
            </a: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Script statements are executed in document order as the Web page is first being loaded into the brow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See firstprogram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See fragmentedscript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-side processing of data in HTML fo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t f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a string with no new lin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t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a string potentially with new lin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se form elements are incapable of holding numeric data.  For example, If you assign a numeric literal to a text element in the Browser Object, it is converted on the fly into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280" y="6248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See calculato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26668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ing user choic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Boolean Vari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str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dio 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Boolean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str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 There is no built-in way to test which one(s) ar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eck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mong a group.  The best way is to loop over them and test each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338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See cart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365760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n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s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Works like a single selection group of radio but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elected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perty of the menu holds the currently selected menu index  -- no need to iterate to find user's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s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Works like a group of check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elected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perty of the menu only holds the first (usually) currently selected menu index  -- have to iterate over 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el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perties of the menu options to find all the user's cho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2520" y="365760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See carta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idation Before Submission to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form   name="formname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ethod="GE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ction="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http://www.cknuckles.com/cgi/echo.cgi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&lt;input type="submit" value="Submit Form"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document.formname.onsubmit=verif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99cc00"/>
                </a:solidFill>
                <a:latin typeface="Courier New"/>
              </a:rPr>
              <a:t>// has to be after def. of submit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function verify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-retur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rue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if form data i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-retur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alse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otherwise -- form won't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sub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16880" y="6095880"/>
            <a:ext cx="243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menuverif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cart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alidation using string o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str = "Scooby Do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 automatically treated as a string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or example,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x=str.charA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 the variable x to contain the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c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various methods of a string object, you can extract any information you want about the string.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05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320" y="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ummary of the String ob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334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worked with strings before, most of this already should be familiar to you in conc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8763120" cy="3311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ify the following about the form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must be at least 4 characters long, must contain at least one blank space, and must neither begin nor end with a spa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-mail address must be at least 5 characters long, must contain no blank spaces, must contain exactly one @ character, and must contain at least one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ip code must be numeric and exactly five characters lo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3960" y="64310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See textverif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9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Script is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osely typ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means a variable can hold any of JavaScript's literal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r x=3.14;  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x="a string";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x=true;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sed to declare variables since no typing i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special fixed literal values.  It's better to assign predefined literals when weird things happen than to crash Web browse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r y;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uninitialized variabl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assigned the literal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un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r y ="yi"*"kes";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y contains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ot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y = 3/0;   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y contains the literal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ic syntax is very similar to that of Java and C++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ors ar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038480" cy="1913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5715000" cy="224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4920" y="5638680"/>
            <a:ext cx="777240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i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x="3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y="4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z=x+y;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"34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=y+x;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"43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so used for addition of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x=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y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z=x+y;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uality is a problem since most data stored in HTML form elements is string data.  We ca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arseFloa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arseIn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ata to force addit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x="3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y="4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z= parseFloat(x)+parseFloat(y);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//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als are stand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572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s are stand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85345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for functions is standard, with the exception that you don't declare types for parameters or for returned valu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7772400" cy="164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2895480"/>
            <a:ext cx="91440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an example of a void (no return value) styl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unction customrule(width,ch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or (var x=1 ; x&lt;=width ; x++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cument.write(ch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cument.write("&lt;br /&gt;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a sample call to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ustomrule(25,"#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the result in the Web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######################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an example of a return styl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unction times10(num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um=num*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a sample call to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r num = times10(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 is that the variabl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3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in functions is straight-forward and works as you would exp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are visible inside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arameters are local to the function call and so are variables declared inside functions using the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variables are passed to functions by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passed to functions by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Scope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unction scopedemo(x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ar y=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y=x+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z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ar x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ar y=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ar z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copedemo(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After the function call, the state of the global variabl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&lt;--&gt;2,  y&lt;--&gt;3,  z&lt;--&gt;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global variables "live" so long as the page is loaded into the browser.  Refreshing the page, re-initializes global var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variables "live" only during the function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1:27:46Z</dcterms:created>
  <dc:creator>Craig Knuckles</dc:creator>
  <dc:description/>
  <dc:language>en-US</dc:language>
  <cp:lastModifiedBy>Craig Knuckles</cp:lastModifiedBy>
  <dcterms:modified xsi:type="dcterms:W3CDTF">2004-07-23T01:03:24Z</dcterms:modified>
  <cp:revision>85</cp:revision>
  <dc:subject/>
  <dc:title>PowerPoint Presentation</dc:title>
</cp:coreProperties>
</file>